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EBD-5F6E-4B67-BEC2-76BDFB3D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182-2F07-4E8E-BA6C-C47F113E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FD5-589A-420B-9C6F-93D63E0C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CDB-0416-4916-B068-86303DCC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2D029-4D87-4358-A3AD-1CDE3FA9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401F7-186C-42FF-882A-08612730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98132-4588-4D2C-9C90-8ACF2E4E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17620-036D-4117-AC80-C9D27CD1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7697E-E6F0-4962-9DB4-0D3CE538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C8D29-724E-4BFB-A32D-ADB4DC20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AC94F-D0B1-4798-B61A-967DED2D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504-17F5-4083-97B0-5BAFD0C2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C8850-ADDC-4001-B480-59FC7FD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3B2DA-C26E-473F-9A2C-14897DCB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87D01-2C8E-475A-8E44-AD3391F6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15C26-A34B-407B-9190-DEE925E6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13060-8D1D-48D7-A2DA-3A4F40D1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F18-AAFF-4792-9C9A-3AB3854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31D-B0AC-46B5-81AB-2E7A8FC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848-945B-4F7C-AB67-C08D4960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37E-408B-41E9-9ECF-FC3772B6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A87-FAE5-47A4-B970-C8D1DAD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204-7795-4D35-ACB0-E218330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FB8-4087-4CAC-9F42-AD8DE46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33E0-A7C7-46F5-A3FD-772A3DDFF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64AA-E4A4-49B3-B86D-1DADB5B57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library.ru/" TargetMode="External"/><Relationship Id="rId3" Type="http://schemas.openxmlformats.org/officeDocument/2006/relationships/hyperlink" Target="http://www.kostyor.ru/" TargetMode="External"/><Relationship Id="rId4" Type="http://schemas.openxmlformats.org/officeDocument/2006/relationships/hyperlink" Target="http://www.maly.r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Луч света в темном царстве. Права ли была Катерина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Сокотун Мария Валентиновна, студент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урса, фил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вают ли безвыходные ситуа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блемный вопрос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ривело Катерину к самоубийству (каковы причины этого поступка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л ли выход из этой ситуации у герои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автор показывает эту пробл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Дидактические цели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твратить суицидальные настроения среди учащихся 10х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ытка найти решение из безвыходной ситу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Представление результатов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исследов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и докла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инение, 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кл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эб-сай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должительность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Время выполн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две нед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личество часов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личество уроков: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Этапы проведения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, формулировка 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ая работа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та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Информационные ресур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филактика суицидального поведения у детей и подростков. Методические рекомендации. Сыктывкар, 2002. Составитель Рожицина А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ай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/>
              </a:rPr>
              <a:t>http://ilibrar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kostyor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www.mal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2T08:54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